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29988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ym193006 OLE 2.0 PDC 5/93 </a:t>
            </a:r>
            <a:fld id="{7FC6CD86-0D5F-485B-93E7-0125B5C3F39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Object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rry MacKichan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ci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23880" y="2590920"/>
            <a:ext cx="60958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Ole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76200" y="1771560"/>
            <a:ext cx="7219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container (client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 and 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ata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04800" y="1619280"/>
            <a:ext cx="6800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data (and presen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hange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different flavors used for data transfer (clipboard, Drag and Dr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ersistStorag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80960" y="1619280"/>
            <a:ext cx="6381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ing and sa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ing a storage to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ing object’s and container’s access to th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ateg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52480" y="1486080"/>
            <a:ext cx="62866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or 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LL or an EX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also as a stand-alone ap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t read and write 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user edit objects directly, without using O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I or MD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++ Or 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09800" y="1447920"/>
            <a:ext cx="71629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v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vtbl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yntax checking by the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ual model is closer to 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un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de may be i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9760" y="1581120"/>
            <a:ext cx="63626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trol is therefor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er concurrency problems (no IMessageFil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619280"/>
            <a:ext cx="72010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existing code, it is probably already a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will provide IViewObject and IOleCache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oices For Thi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19240" y="1542960"/>
            <a:ext cx="5143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nd-alone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site of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be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Very Simple S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562040"/>
            <a:ext cx="72010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quire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very little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ps as its only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the first milestone i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09800" y="1504800"/>
            <a:ext cx="71629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GetClass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(only) entry point to the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s from EXE-base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04800" y="1752480"/>
            <a:ext cx="67438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mbe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inking to the who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3080" y="1752480"/>
            <a:ext cx="4896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695600"/>
            <a:ext cx="689616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terfaces/nested class idi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ed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class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iewObject interface i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57440" y="1581120"/>
            <a:ext cx="58672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gistrati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First Milest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EXE C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638360"/>
            <a:ext cx="7201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up with/Embedding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IMessageFilt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ke and clean up on 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0560" y="1467000"/>
            <a:ext cx="7601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 in native and metafile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ex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for clipboard,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linking to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8280" y="420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8120" y="4952880"/>
            <a:ext cx="2286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Drag and Drop or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6720" y="4971960"/>
            <a:ext cx="1981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In-place Activation  or Ed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4480" y="5105520"/>
            <a:ext cx="2685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pseudo-objects or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66760" y="5334120"/>
            <a:ext cx="21337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message filter or treat-a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04800" y="1657440"/>
            <a:ext cx="613404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need a ClassFactory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