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314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 93006 OLE 2.0 PDC 5/93 </a:t>
            </a:r>
            <a:fld id="{E3706AC3-548E-4501-B88D-B106BB99919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952560"/>
            <a:ext cx="817236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8440"/>
            <a:ext cx="71629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ll keep the existing changes made to a storage.  File saves perform a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n the root level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_lclo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eturns a count of zero then the IStorage is no longer va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238560" y="1739880"/>
            <a:ext cx="266688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ream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iz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lockReg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l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ream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738440"/>
            <a:ext cx="7162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wr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at the same as _llsee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ream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changes to disk, but won’t be physically there until parents comm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Looking a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228600"/>
            <a:ext cx="91440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tainer Interface Groupin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sic Contai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681200" y="1344600"/>
            <a:ext cx="60912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00480" y="1739880"/>
            <a:ext cx="43657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OleClientSite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Moni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Get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questNewObjectLay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738440"/>
            <a:ext cx="716292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save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container call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av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is callbac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Topical out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65320" y="1738440"/>
            <a:ext cx="50148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OleClient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280" y="1738440"/>
            <a:ext cx="824724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s requesting that the container display the object.  The container typically gets the IViewObject from the IOleObject and performs a 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ClientSit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how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that the object has just been opened.  Good time to set the hatch border b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400480" y="1739880"/>
            <a:ext cx="412920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AdviseSink methods **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Data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Re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Sa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OnCl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Advise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733400"/>
            <a:ext cx="71629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dviseSink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View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alidate client are where the object is visible to the u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88920" y="13366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285264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733400"/>
            <a:ext cx="716292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dvise Si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IAdvise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hos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Host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the application name and o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ntiating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733400"/>
            <a:ext cx="71629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ith OLEIVERB_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 for IOleClientSite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the IViewObject interface by calling IOle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he IViewObject by calling IViewObject::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Defin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41280" y="1738440"/>
            <a:ext cx="66610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imple container implements the absolute minimum number of interfaces required for an open mod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to an OLE 1.0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faces Required</a:t>
            </a:r>
            <a:br>
              <a:rPr sz="4800"/>
            </a:b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oking ah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76240" y="1432080"/>
            <a:ext cx="73915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Ole2.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* Object creation APIs *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API  </a:t>
            </a:r>
            <a:r>
              <a:rPr b="0" i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Creat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CLSID rclsid, REFIID riid, DWORD renderopt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FORMATETC pFormatEtc, LPOLECLIENTSITE pClientSite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PSTORAGE pStg, LPVOID FAR* ppvObj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30360" y="3043080"/>
            <a:ext cx="7883640" cy="34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cls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Reference id of the server that will create and edit the 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itial interface request.  Typically IID_IOleObj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derop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Rendering options.  Typically OLERENDER_DRA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FormatEtc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Format for the rendered object.  Typically N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lientSite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ointer to the IOleClientSite.  Almost always a valid IOleClientSite interface poi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Wingdings"/>
                <a:ea typeface="Wingdings"/>
              </a:rPr>
              <a:t>☒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tg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Storage created by container within the containers root stor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☑</a:t>
            </a:r>
            <a:r>
              <a:rPr b="1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vObj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terface drop for the requeste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ii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See abov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5908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CreateDocfil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(OF_CRE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the root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root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gOpenStor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s you would OpenFile; similar fla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open and creat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acte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oot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TGM_TRANSACTED fla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5640" y="228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87800" y="1395360"/>
            <a:ext cx="266688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Unknown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Query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ddR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*** IStorage methods ***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Copy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MoveElement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ve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EnumEl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stroy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RenameEl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ElementTi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Cla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tState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t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85800" y="1738440"/>
            <a:ext cx="597384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r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n existing named stream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n IStream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1738440"/>
            <a:ext cx="716292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new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torage::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named storage within a sto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 child IStorag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0160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 Support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Relevant IStorag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