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478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Martinez(2)93006 OLE 2.0 PDC 5/93 </a:t>
            </a:r>
            <a:fld id="{19035C4B-550E-4ED1-8FAC-5C6024113A9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774720"/>
            <a:ext cx="817236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Containers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d Martinez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046320" y="3424320"/>
            <a:ext cx="46512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645080" y="4859280"/>
            <a:ext cx="14508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08120" y="38880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1911240" y="565200"/>
            <a:ext cx="498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do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8640" y="565200"/>
            <a:ext cx="1112760" cy="61596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docu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57280" y="1790640"/>
            <a:ext cx="622944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object can exist in multiple in-place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46596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s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06320" y="387360"/>
            <a:ext cx="1366920" cy="988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33320" y="619200"/>
            <a:ext cx="1063800" cy="51588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06320" y="1127160"/>
            <a:ext cx="49356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si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1608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932120" y="2970360"/>
            <a:ext cx="4255920" cy="2065320"/>
          </a:xfrm>
          <a:prstGeom prst="rect">
            <a:avLst/>
          </a:prstGeom>
          <a:noFill/>
          <a:ln w="50760">
            <a:solidFill>
              <a:srgbClr val="3365fb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473880" y="272268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1600" y="5092560"/>
            <a:ext cx="18241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3365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Container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ckli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1733400"/>
            <a:ext cx="53341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ntiating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aving and lo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und Fi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200240" y="1638360"/>
            <a:ext cx="674388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to use both Compound File I/O and OpenFile I/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your output streams and stora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object needs its own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447920" y="1714680"/>
            <a:ext cx="62485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MDI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s men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current activ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border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lays menu status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tes keyboard accel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1733400"/>
            <a:ext cx="71629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s client must impleme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InPlace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6440" y="385920"/>
            <a:ext cx="1365120" cy="988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91960" y="222120"/>
            <a:ext cx="579600" cy="17136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place fram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6440" y="385920"/>
            <a:ext cx="1365120" cy="98748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lace fr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2240" y="2870280"/>
            <a:ext cx="7475400" cy="371484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OleInPlaceFrame, IOleInPlaceUIWindow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{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 (THIS_ REFIID riid, LPVOID FAR* ppvObj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 (THIS) 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 (THI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Window) (THIS_ HWND FAR* lphwn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ontextSensitiveHelp) (THIS_ BOOL fEnterMod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UIWindow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GetBorder) (THIS_ LPRECT lprectBorder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ques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BorderSpace) (THIS_ LPCBORDERWIDTHS lpborder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ActiveObject) (THIS_ LPOLEINPLACEACTIVEOBJECT lpActiveObject,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LPCSTR lpszObjName) PURE;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OleInPlaceFrame methods ***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InsertMenus) (THIS_ HMENU hmenuShared, LPOLEMENUGROUPWIDTHS lpMenuWidths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Menu) (THIS_ HMENU hmenuShared, HOLEMENU holemenu, HWND hwndActiveObject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RemoveMenus) (THIS_ HMENU hmenuShare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SetStatusText) (THIS_ LPCSTR lpszStatusText) PURE;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EnableModeless) (THIS_ BOOL fEnable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TranslateAccelerator) (THIS_ LPMSG lpmsg, WORD wID) PURE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3328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84120" y="1479600"/>
            <a:ext cx="216216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ffc66d"/>
            </a:solidFill>
            <a:round/>
          </a:ln>
          <a:effectLst>
            <a:outerShdw dist="0" dir="0" blurRad="0" rotWithShape="0">
              <a:srgbClr val="081d58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2041560"/>
            <a:ext cx="5460840" cy="3948120"/>
          </a:xfrm>
          <a:prstGeom prst="rect">
            <a:avLst/>
          </a:prstGeom>
          <a:noFill/>
          <a:ln w="50760">
            <a:solidFill>
              <a:srgbClr val="ffc66d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3240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Model</a:t>
            </a:r>
            <a:br>
              <a:rPr sz="4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pplication proper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28800" y="2044800"/>
            <a:ext cx="5462640" cy="3954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6523200" y="2760840"/>
            <a:ext cx="2671920" cy="514440"/>
          </a:xfrm>
          <a:prstGeom prst="rect">
            <a:avLst/>
          </a:prstGeom>
          <a:solidFill>
            <a:srgbClr val="b760f9"/>
          </a:solidFill>
          <a:ln w="25560">
            <a:solidFill>
              <a:srgbClr val="081d5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913040" y="2751120"/>
            <a:ext cx="4449600" cy="2460600"/>
          </a:xfrm>
          <a:prstGeom prst="rect">
            <a:avLst/>
          </a:prstGeom>
          <a:noFill/>
          <a:ln w="50760">
            <a:solidFill>
              <a:srgbClr val="b760f9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