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754600" y="0"/>
            <a:ext cx="33764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Tools93101 Xhibition ‘93  6/93 </a:t>
            </a:r>
            <a:fld id="{9320FEE7-1387-44B8-A574-5871B786369A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22440" y="1046160"/>
            <a:ext cx="7899480" cy="293760"/>
          </a:xfrm>
          <a:prstGeom prst="rect">
            <a:avLst/>
          </a:prstGeom>
          <a:solidFill>
            <a:srgbClr val="00279f"/>
          </a:solidFill>
          <a:ln w="1260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   E   C   H   N   I   C   A   L             I   N   F   O   R   M   A   T   I   O  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786040" y="1738440"/>
            <a:ext cx="3571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Profile Edi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71560" y="1581120"/>
            <a:ext cx="647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per-user environment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datory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User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19280" y="2749680"/>
            <a:ext cx="4137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ocal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2\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360" y="118116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2880" y="39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ount Mana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344760" y="198108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39680" y="2270160"/>
            <a:ext cx="391320" cy="464040"/>
            <a:chOff x="1039680" y="2270160"/>
            <a:chExt cx="391320" cy="464040"/>
          </a:xfrm>
        </p:grpSpPr>
        <p:sp>
          <p:nvSpPr>
            <p:cNvPr id="70" name=""/>
            <p:cNvSpPr/>
            <p:nvPr/>
          </p:nvSpPr>
          <p:spPr>
            <a:xfrm>
              <a:off x="107172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3968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595520" y="2270160"/>
            <a:ext cx="390960" cy="464040"/>
            <a:chOff x="1595520" y="2270160"/>
            <a:chExt cx="390960" cy="464040"/>
          </a:xfrm>
        </p:grpSpPr>
        <p:sp>
          <p:nvSpPr>
            <p:cNvPr id="73" name=""/>
            <p:cNvSpPr/>
            <p:nvPr/>
          </p:nvSpPr>
          <p:spPr>
            <a:xfrm>
              <a:off x="1627200" y="230508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95520" y="227016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098800" y="2249640"/>
            <a:ext cx="390960" cy="465480"/>
            <a:chOff x="2098800" y="2249640"/>
            <a:chExt cx="390960" cy="465480"/>
          </a:xfrm>
        </p:grpSpPr>
        <p:sp>
          <p:nvSpPr>
            <p:cNvPr id="76" name=""/>
            <p:cNvSpPr/>
            <p:nvPr/>
          </p:nvSpPr>
          <p:spPr>
            <a:xfrm>
              <a:off x="2130480" y="228600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98800" y="224964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4800" y="1517760"/>
            <a:ext cx="482760" cy="344520"/>
            <a:chOff x="604800" y="1517760"/>
            <a:chExt cx="482760" cy="344520"/>
          </a:xfrm>
        </p:grpSpPr>
        <p:sp>
          <p:nvSpPr>
            <p:cNvPr id="79" name=""/>
            <p:cNvSpPr/>
            <p:nvPr/>
          </p:nvSpPr>
          <p:spPr>
            <a:xfrm>
              <a:off x="641520" y="155736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4800" y="151776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68440" y="1238400"/>
            <a:ext cx="482760" cy="342720"/>
            <a:chOff x="1468440" y="1238400"/>
            <a:chExt cx="482760" cy="342720"/>
          </a:xfrm>
        </p:grpSpPr>
        <p:sp>
          <p:nvSpPr>
            <p:cNvPr id="82" name=""/>
            <p:cNvSpPr/>
            <p:nvPr/>
          </p:nvSpPr>
          <p:spPr>
            <a:xfrm>
              <a:off x="1503360" y="127620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8440" y="1238400"/>
              <a:ext cx="446040" cy="3031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2760" y="1565280"/>
            <a:ext cx="482760" cy="344520"/>
            <a:chOff x="2282760" y="1565280"/>
            <a:chExt cx="482760" cy="344520"/>
          </a:xfrm>
        </p:grpSpPr>
        <p:sp>
          <p:nvSpPr>
            <p:cNvPr id="85" name=""/>
            <p:cNvSpPr/>
            <p:nvPr/>
          </p:nvSpPr>
          <p:spPr>
            <a:xfrm>
              <a:off x="2317680" y="1604880"/>
              <a:ext cx="4478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2760" y="1565280"/>
              <a:ext cx="446040" cy="304920"/>
            </a:xfrm>
            <a:prstGeom prst="rect">
              <a:avLst/>
            </a:prstGeom>
            <a:solidFill>
              <a:srgbClr val="006b6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754520" y="1123920"/>
            <a:ext cx="3192480" cy="174456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62000" y="185112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49840" y="2212920"/>
            <a:ext cx="390960" cy="464040"/>
            <a:chOff x="5649840" y="2212920"/>
            <a:chExt cx="390960" cy="464040"/>
          </a:xfrm>
        </p:grpSpPr>
        <p:sp>
          <p:nvSpPr>
            <p:cNvPr id="90" name=""/>
            <p:cNvSpPr/>
            <p:nvPr/>
          </p:nvSpPr>
          <p:spPr>
            <a:xfrm>
              <a:off x="568152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984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205680" y="2212920"/>
            <a:ext cx="390960" cy="464040"/>
            <a:chOff x="6205680" y="2212920"/>
            <a:chExt cx="390960" cy="464040"/>
          </a:xfrm>
        </p:grpSpPr>
        <p:sp>
          <p:nvSpPr>
            <p:cNvPr id="93" name=""/>
            <p:cNvSpPr/>
            <p:nvPr/>
          </p:nvSpPr>
          <p:spPr>
            <a:xfrm>
              <a:off x="6237360" y="224784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05680" y="2212920"/>
              <a:ext cx="362160" cy="432000"/>
            </a:xfrm>
            <a:custGeom>
              <a:avLst/>
              <a:gdLst/>
              <a:ahLst/>
              <a:rect l="0" t="0" r="r" b="b"/>
              <a:pathLst>
                <a:path w="1006" h="1200">
                  <a:moveTo>
                    <a:pt x="502" y="0"/>
                  </a:moveTo>
                  <a:lnTo>
                    <a:pt x="0" y="1200"/>
                  </a:lnTo>
                  <a:lnTo>
                    <a:pt x="1006" y="1200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708600" y="2192400"/>
            <a:ext cx="391320" cy="465480"/>
            <a:chOff x="6708600" y="2192400"/>
            <a:chExt cx="391320" cy="465480"/>
          </a:xfrm>
        </p:grpSpPr>
        <p:sp>
          <p:nvSpPr>
            <p:cNvPr id="96" name=""/>
            <p:cNvSpPr/>
            <p:nvPr/>
          </p:nvSpPr>
          <p:spPr>
            <a:xfrm>
              <a:off x="6740640" y="2228760"/>
              <a:ext cx="359280" cy="429120"/>
            </a:xfrm>
            <a:custGeom>
              <a:avLst/>
              <a:gdLst/>
              <a:ahLst/>
              <a:rect l="0" t="0" r="r" b="b"/>
              <a:pathLst>
                <a:path w="998" h="1192">
                  <a:moveTo>
                    <a:pt x="499" y="0"/>
                  </a:moveTo>
                  <a:lnTo>
                    <a:pt x="0" y="1192"/>
                  </a:lnTo>
                  <a:lnTo>
                    <a:pt x="998" y="1192"/>
                  </a:lnTo>
                  <a:lnTo>
                    <a:pt x="499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8600" y="2192400"/>
              <a:ext cx="362160" cy="433800"/>
            </a:xfrm>
            <a:custGeom>
              <a:avLst/>
              <a:gdLst/>
              <a:ahLst/>
              <a:rect l="0" t="0" r="r" b="b"/>
              <a:pathLst>
                <a:path w="1006" h="1205">
                  <a:moveTo>
                    <a:pt x="502" y="0"/>
                  </a:moveTo>
                  <a:lnTo>
                    <a:pt x="0" y="1205"/>
                  </a:lnTo>
                  <a:lnTo>
                    <a:pt x="1006" y="1205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10360" y="1574640"/>
            <a:ext cx="482400" cy="344880"/>
            <a:chOff x="5310360" y="1574640"/>
            <a:chExt cx="482400" cy="344880"/>
          </a:xfrm>
        </p:grpSpPr>
        <p:sp>
          <p:nvSpPr>
            <p:cNvPr id="99" name=""/>
            <p:cNvSpPr/>
            <p:nvPr/>
          </p:nvSpPr>
          <p:spPr>
            <a:xfrm>
              <a:off x="5346720" y="1614600"/>
              <a:ext cx="4460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0360" y="1574640"/>
              <a:ext cx="4478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116760" y="1238400"/>
            <a:ext cx="482760" cy="342720"/>
            <a:chOff x="6116760" y="1238400"/>
            <a:chExt cx="482760" cy="342720"/>
          </a:xfrm>
        </p:grpSpPr>
        <p:sp>
          <p:nvSpPr>
            <p:cNvPr id="102" name=""/>
            <p:cNvSpPr/>
            <p:nvPr/>
          </p:nvSpPr>
          <p:spPr>
            <a:xfrm>
              <a:off x="6151680" y="127620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6760" y="1238400"/>
              <a:ext cx="446040" cy="3031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950160" y="1469880"/>
            <a:ext cx="482760" cy="344880"/>
            <a:chOff x="6950160" y="1469880"/>
            <a:chExt cx="482760" cy="344880"/>
          </a:xfrm>
        </p:grpSpPr>
        <p:sp>
          <p:nvSpPr>
            <p:cNvPr id="105" name=""/>
            <p:cNvSpPr/>
            <p:nvPr/>
          </p:nvSpPr>
          <p:spPr>
            <a:xfrm>
              <a:off x="6985080" y="1509840"/>
              <a:ext cx="447840" cy="30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50160" y="1469880"/>
              <a:ext cx="446040" cy="304920"/>
            </a:xfrm>
            <a:prstGeom prst="rect">
              <a:avLst/>
            </a:prstGeom>
            <a:solidFill>
              <a:srgbClr val="009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5192640" y="2949480"/>
            <a:ext cx="38084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GlobalGroup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cal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main1\GlobalGroup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Use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67560" y="1812960"/>
            <a:ext cx="144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omai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nitor and control network server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9600" y="1790640"/>
            <a:ext cx="6724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and delete connections to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and stop services on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irectory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 other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99400" y="5470560"/>
            <a:ext cx="1233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772400" y="5586480"/>
            <a:ext cx="985680" cy="895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08160" y="228600"/>
            <a:ext cx="6729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formance Monit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790640"/>
            <a:ext cx="74692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-time graphing of system cou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rter” to notify on alert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going performance 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6880" indent="-596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“remote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839000" y="5643720"/>
            <a:ext cx="843120" cy="782640"/>
            <a:chOff x="7839000" y="5643720"/>
            <a:chExt cx="843120" cy="782640"/>
          </a:xfrm>
        </p:grpSpPr>
        <p:sp>
          <p:nvSpPr>
            <p:cNvPr id="116" name=""/>
            <p:cNvSpPr/>
            <p:nvPr/>
          </p:nvSpPr>
          <p:spPr>
            <a:xfrm>
              <a:off x="7940520" y="6354720"/>
              <a:ext cx="623880" cy="0"/>
            </a:xfrm>
            <a:prstGeom prst="line">
              <a:avLst/>
            </a:prstGeom>
            <a:ln w="2556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35840" y="6254640"/>
              <a:ext cx="643320" cy="157680"/>
            </a:xfrm>
            <a:custGeom>
              <a:avLst/>
              <a:gdLst/>
              <a:ahLst/>
              <a:rect l="0" t="0" r="r" b="b"/>
              <a:pathLst>
                <a:path w="1787" h="438">
                  <a:moveTo>
                    <a:pt x="0" y="438"/>
                  </a:moveTo>
                  <a:lnTo>
                    <a:pt x="1787" y="438"/>
                  </a:lnTo>
                  <a:lnTo>
                    <a:pt x="1787" y="345"/>
                  </a:lnTo>
                  <a:lnTo>
                    <a:pt x="1284" y="345"/>
                  </a:lnTo>
                  <a:lnTo>
                    <a:pt x="1284" y="0"/>
                  </a:lnTo>
                  <a:lnTo>
                    <a:pt x="343" y="39"/>
                  </a:lnTo>
                  <a:lnTo>
                    <a:pt x="343" y="332"/>
                  </a:lnTo>
                  <a:lnTo>
                    <a:pt x="0" y="332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cecece"/>
            </a:solidFill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50320" y="6235560"/>
              <a:ext cx="538560" cy="190800"/>
            </a:xfrm>
            <a:custGeom>
              <a:avLst/>
              <a:gdLst/>
              <a:ahLst/>
              <a:rect l="0" t="0" r="r" b="b"/>
              <a:pathLst>
                <a:path w="1496" h="530">
                  <a:moveTo>
                    <a:pt x="0" y="0"/>
                  </a:moveTo>
                  <a:lnTo>
                    <a:pt x="1085" y="13"/>
                  </a:lnTo>
                  <a:lnTo>
                    <a:pt x="1085" y="211"/>
                  </a:lnTo>
                  <a:lnTo>
                    <a:pt x="993" y="211"/>
                  </a:lnTo>
                  <a:lnTo>
                    <a:pt x="993" y="358"/>
                  </a:lnTo>
                  <a:lnTo>
                    <a:pt x="1496" y="358"/>
                  </a:lnTo>
                  <a:lnTo>
                    <a:pt x="1496" y="530"/>
                  </a:lnTo>
                  <a:lnTo>
                    <a:pt x="609" y="530"/>
                  </a:lnTo>
                  <a:lnTo>
                    <a:pt x="609" y="384"/>
                  </a:lnTo>
                  <a:lnTo>
                    <a:pt x="0" y="384"/>
                  </a:lnTo>
                  <a:lnTo>
                    <a:pt x="0" y="292"/>
                  </a:lnTo>
                  <a:lnTo>
                    <a:pt x="768" y="292"/>
                  </a:lnTo>
                  <a:lnTo>
                    <a:pt x="768" y="224"/>
                  </a:lnTo>
                  <a:lnTo>
                    <a:pt x="0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39000" y="5643720"/>
              <a:ext cx="843120" cy="64296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59880" y="5668920"/>
              <a:ext cx="800280" cy="600120"/>
            </a:xfrm>
            <a:prstGeom prst="roundRect">
              <a:avLst/>
            </a:prstGeom>
            <a:noFill/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78600" y="5694480"/>
              <a:ext cx="762120" cy="539640"/>
            </a:xfrm>
            <a:prstGeom prst="roundRect">
              <a:avLst/>
            </a:prstGeom>
            <a:solidFill>
              <a:srgbClr val="3365fb"/>
            </a:solidFill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2720" y="5711760"/>
              <a:ext cx="714240" cy="504720"/>
            </a:xfrm>
            <a:prstGeom prst="roundRect">
              <a:avLst/>
            </a:prstGeom>
            <a:blipFill rotWithShape="0">
              <a:blip r:embed="rId1"/>
              <a:tile tx="0" ty="0" sx="133018" sy="133018" algn="ctr"/>
            </a:blipFill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31160" y="5802480"/>
              <a:ext cx="652680" cy="324360"/>
            </a:xfrm>
            <a:custGeom>
              <a:avLst/>
              <a:gdLst/>
              <a:ahLst/>
              <a:rect l="0" t="0" r="r" b="b"/>
              <a:pathLst>
                <a:path fill="none" w="1813" h="901">
                  <a:moveTo>
                    <a:pt x="0" y="305"/>
                  </a:moveTo>
                  <a:lnTo>
                    <a:pt x="185" y="397"/>
                  </a:lnTo>
                  <a:lnTo>
                    <a:pt x="449" y="66"/>
                  </a:lnTo>
                  <a:lnTo>
                    <a:pt x="714" y="901"/>
                  </a:lnTo>
                  <a:lnTo>
                    <a:pt x="1032" y="0"/>
                  </a:lnTo>
                  <a:lnTo>
                    <a:pt x="1218" y="543"/>
                  </a:lnTo>
                  <a:lnTo>
                    <a:pt x="1522" y="158"/>
                  </a:lnTo>
                  <a:lnTo>
                    <a:pt x="1813" y="450"/>
                  </a:lnTo>
                </a:path>
              </a:pathLst>
            </a:custGeom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26280" y="5735520"/>
              <a:ext cx="0" cy="457200"/>
            </a:xfrm>
            <a:prstGeom prst="line">
              <a:avLst/>
            </a:prstGeom>
            <a:ln w="25560">
              <a:solidFill>
                <a:srgbClr val="00b7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78720" y="6240600"/>
              <a:ext cx="71280" cy="33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87400" y="228600"/>
            <a:ext cx="73706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Panel Appl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73240" y="1314360"/>
            <a:ext cx="6799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’s connected to what resou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/Stop/Pausing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s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and startup in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app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perating system to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settings (VMM, proces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21600" y="5900760"/>
            <a:ext cx="9208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95200" y="304920"/>
            <a:ext cx="851544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 Control Panel Applet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figuration of computer network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7360" y="2209680"/>
            <a:ext cx="7829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adap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nd configure network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network b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mputer name and specify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64600" y="5343480"/>
            <a:ext cx="13525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71760" y="268200"/>
            <a:ext cx="6000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bust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9120" y="1623960"/>
            <a:ext cx="755028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 back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 Manager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GUI+FDISK+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n Sets (a.k.a. Volume Se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s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cky Drive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nterrupted Power Supply (U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118360" y="2090880"/>
            <a:ext cx="507960" cy="55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5240" y="618336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99000" y="1581120"/>
            <a:ext cx="5223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547040" y="5357880"/>
            <a:ext cx="522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6560" y="1620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etup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95480" y="1733400"/>
            <a:ext cx="69534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system configuration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a new devic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SCSI disk drives and tape dr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/Remove Windows N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user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 system with the repair 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0240" y="1790640"/>
            <a:ext cx="6743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very similar to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 and new tools to manage increased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dmin tools are remot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ools have a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23920" y="1584360"/>
            <a:ext cx="689616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</a:t>
            </a:r>
            <a:r>
              <a:rPr b="1" lang="en-US" sz="4000" spc="-1" strike="noStrike" baseline="40000">
                <a:solidFill>
                  <a:srgbClr val="fafd00"/>
                </a:solidFill>
                <a:latin typeface="Times New Roman"/>
                <a:ea typeface="Times New Roman"/>
              </a:rPr>
              <a:t>®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afd00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dministration Tools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You Will Lear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09640" y="1828800"/>
            <a:ext cx="7524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hell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ministratio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 Admin Ut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84240" y="231840"/>
            <a:ext cx="53769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36720" y="1362240"/>
            <a:ext cx="727092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Microsoft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shell functionality the sam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r, Control Panel, Access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2120" indent="-4921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794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han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Manager, Print Manager, Server Manager, Event Viewer, Control Panel Applets, Performance monitor, Backup, User Manag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8840" indent="-3952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  <a:tabLst>
                <a:tab algn="l" pos="33973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mmand She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31280" y="5595840"/>
            <a:ext cx="10368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01720" y="231840"/>
            <a:ext cx="75405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File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71440" y="1638360"/>
            <a:ext cx="86011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features beyond Microsoft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with integrated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Windows NT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shared files and direc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network provider brow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long and 8.3 file nam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92080" y="2824200"/>
            <a:ext cx="7245360" cy="30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13600" y="5500800"/>
            <a:ext cx="6681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79600" y="371520"/>
            <a:ext cx="8099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Print Manag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0560" y="1562040"/>
            <a:ext cx="810252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UI features beyond Windows 3.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bar, shows entire network que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browser shows all printers on the 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Viewers” enable remote administr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 setup only required for locally connected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Manager manages net pri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5120" y="2655720"/>
            <a:ext cx="7466040" cy="33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997760" y="5811840"/>
            <a:ext cx="8254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66680" y="228600"/>
            <a:ext cx="70102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ew and control event service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43000" y="1905120"/>
            <a:ext cx="685800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facility for logging events by system and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(3) logs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, Security,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able view of event 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event logs as tex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manages logs on any server or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64560" y="5510160"/>
            <a:ext cx="9302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228600"/>
            <a:ext cx="86439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581120"/>
            <a:ext cx="71629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ility to act as a domain contro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Network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fault-toleran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rror/Duplexing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 set with parity (Raid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”, full-featured versions of administ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255600"/>
            <a:ext cx="746748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 Manager</a:t>
            </a: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rol “User-level” security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04840" y="1828800"/>
            <a:ext cx="69343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users and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/delete, modify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securit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, account policy, au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om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dminister other domains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27840" y="5516640"/>
            <a:ext cx="11048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