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975280" y="23760"/>
            <a:ext cx="31561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. Allard93101 Xhibition ‘93 (1st talk) 6/93 </a:t>
            </a:r>
            <a:fld id="{D783268C-0FCC-416F-9E64-94A66BA2F80B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1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457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ing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843360" y="2724120"/>
            <a:ext cx="4692600" cy="2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J. All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 Mana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 Technolog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8040" y="1987560"/>
            <a:ext cx="288936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09640" y="227160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733400"/>
            <a:ext cx="7162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, secure file and print sharing compatible with Windows for Workgroups and LAN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nd account administration tools which can manage systems remotely (and secure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integrated with base 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 MP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 - User’s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1480" y="1733400"/>
            <a:ext cx="81406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network account/login facilitates access to all network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n administrative privileges, users can share local drives, files, CD-ROMs, and pri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mail, scheduling and NetD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o all network resources through common tools - File Manager, Print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23840" y="228600"/>
            <a:ext cx="8896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: Administrator’s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09640" y="1733400"/>
            <a:ext cx="752472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is transport-independent, can match the customer’s 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ly granular access rights can be applied to network resources as they are sh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 security offers fine-tuning of resource sharing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tools offer very simple network installation, configuration and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ystems can be managed remotely as easily as they are loc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2600" y="228600"/>
            <a:ext cx="9118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d Networking Services: Administrator’s Too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1701720"/>
            <a:ext cx="661032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can be placed into groups for simple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location for network component installation, and config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properties and usage can be controlled through a single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events and critical errors logged centrally and consistently on all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ors may graphically monitor remote or local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567480" y="3797280"/>
            <a:ext cx="2426040" cy="519120"/>
            <a:chOff x="6567480" y="3797280"/>
            <a:chExt cx="2426040" cy="519120"/>
          </a:xfrm>
        </p:grpSpPr>
        <p:sp>
          <p:nvSpPr>
            <p:cNvPr id="67" name=""/>
            <p:cNvSpPr txBox="1"/>
            <p:nvPr/>
          </p:nvSpPr>
          <p:spPr>
            <a:xfrm>
              <a:off x="7402680" y="3855960"/>
              <a:ext cx="15908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Server Manag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6567480" y="3797280"/>
              <a:ext cx="677880" cy="51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"/>
          <p:cNvGrpSpPr/>
          <p:nvPr/>
        </p:nvGrpSpPr>
        <p:grpSpPr>
          <a:xfrm>
            <a:off x="6567480" y="4759200"/>
            <a:ext cx="1973520" cy="574560"/>
            <a:chOff x="6567480" y="4759200"/>
            <a:chExt cx="1973520" cy="574560"/>
          </a:xfrm>
        </p:grpSpPr>
        <p:sp>
          <p:nvSpPr>
            <p:cNvPr id="70" name=""/>
            <p:cNvSpPr txBox="1"/>
            <p:nvPr/>
          </p:nvSpPr>
          <p:spPr>
            <a:xfrm>
              <a:off x="7189920" y="4863960"/>
              <a:ext cx="13510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Event View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6567480" y="4759200"/>
              <a:ext cx="471600" cy="57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"/>
          <p:cNvGrpSpPr/>
          <p:nvPr/>
        </p:nvGrpSpPr>
        <p:grpSpPr>
          <a:xfrm>
            <a:off x="6567480" y="1801800"/>
            <a:ext cx="2135520" cy="595440"/>
            <a:chOff x="6567480" y="1801800"/>
            <a:chExt cx="2135520" cy="595440"/>
          </a:xfrm>
        </p:grpSpPr>
        <p:sp>
          <p:nvSpPr>
            <p:cNvPr id="73" name=""/>
            <p:cNvSpPr txBox="1"/>
            <p:nvPr/>
          </p:nvSpPr>
          <p:spPr>
            <a:xfrm>
              <a:off x="7278840" y="1952640"/>
              <a:ext cx="14241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User Manag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>
              <a:off x="6567480" y="1801800"/>
              <a:ext cx="608040" cy="59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"/>
          <p:cNvGrpSpPr/>
          <p:nvPr/>
        </p:nvGrpSpPr>
        <p:grpSpPr>
          <a:xfrm>
            <a:off x="6567480" y="5829480"/>
            <a:ext cx="1992240" cy="536400"/>
            <a:chOff x="6567480" y="5829480"/>
            <a:chExt cx="1992240" cy="536400"/>
          </a:xfrm>
        </p:grpSpPr>
        <p:pic>
          <p:nvPicPr>
            <p:cNvPr id="76" name="" descr=""/>
            <p:cNvPicPr/>
            <p:nvPr/>
          </p:nvPicPr>
          <p:blipFill>
            <a:blip r:embed="rId4"/>
            <a:stretch/>
          </p:blipFill>
          <p:spPr>
            <a:xfrm>
              <a:off x="6567480" y="5829480"/>
              <a:ext cx="539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 txBox="1"/>
            <p:nvPr/>
          </p:nvSpPr>
          <p:spPr>
            <a:xfrm>
              <a:off x="7219800" y="5911920"/>
              <a:ext cx="13399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Perf. Monit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567480" y="2863800"/>
            <a:ext cx="2514600" cy="641520"/>
            <a:chOff x="6567480" y="2863800"/>
            <a:chExt cx="2514600" cy="641520"/>
          </a:xfrm>
        </p:grpSpPr>
        <p:pic>
          <p:nvPicPr>
            <p:cNvPr id="79" name="" descr=""/>
            <p:cNvPicPr/>
            <p:nvPr/>
          </p:nvPicPr>
          <p:blipFill>
            <a:blip r:embed="rId5"/>
            <a:stretch/>
          </p:blipFill>
          <p:spPr>
            <a:xfrm>
              <a:off x="6567480" y="2957400"/>
              <a:ext cx="64764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>
              <a:off x="7440480" y="2863800"/>
              <a:ext cx="164160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Network Contro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 Narrow"/>
                  <a:ea typeface="Arial Narrow"/>
                </a:rPr>
                <a:t>Pan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809640" y="217656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Windows NT Network Architectu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 Architecture:  Highligh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09640" y="1733400"/>
            <a:ext cx="752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hardware and media independence provided by NDIS 3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independence allows offers network administrators freedom of ch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rovider interface allows other NOS clients to integrate seamles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service architecture leveraged by network 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Hardware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38080" y="1352520"/>
            <a:ext cx="7467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detection of network hardware and 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included for many popular network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diverse media including ethernet, token ring, FDDI, ISD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s based on the NDIS 3.0 specification, source portable to Windows for Work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rotocol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8800" y="1930320"/>
            <a:ext cx="1752480" cy="77472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877000" y="2852640"/>
            <a:ext cx="1214280" cy="533520"/>
          </a:xfrm>
          <a:prstGeom prst="rect">
            <a:avLst/>
          </a:prstGeom>
          <a:solidFill>
            <a:srgbClr val="50009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/Print Shar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6480" y="3459240"/>
            <a:ext cx="4000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213680" y="3352680"/>
            <a:ext cx="60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D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909880" y="5526000"/>
            <a:ext cx="3772080" cy="457200"/>
            <a:chOff x="2909880" y="5526000"/>
            <a:chExt cx="3772080" cy="457200"/>
          </a:xfrm>
        </p:grpSpPr>
        <p:sp>
          <p:nvSpPr>
            <p:cNvPr id="92" name=""/>
            <p:cNvSpPr/>
            <p:nvPr/>
          </p:nvSpPr>
          <p:spPr>
            <a:xfrm>
              <a:off x="2909880" y="5526000"/>
              <a:ext cx="3772080" cy="45720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3354480" y="5610240"/>
              <a:ext cx="28843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Interface Driver(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311800" y="3549600"/>
            <a:ext cx="1359000" cy="1782720"/>
            <a:chOff x="5311800" y="3549600"/>
            <a:chExt cx="1359000" cy="1782720"/>
          </a:xfrm>
        </p:grpSpPr>
        <p:sp>
          <p:nvSpPr>
            <p:cNvPr id="95" name=""/>
            <p:cNvSpPr/>
            <p:nvPr/>
          </p:nvSpPr>
          <p:spPr>
            <a:xfrm>
              <a:off x="5311800" y="3549600"/>
              <a:ext cx="1359000" cy="178272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5443560" y="4316400"/>
              <a:ext cx="1144440" cy="31608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BEU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 txBox="1"/>
          <p:nvPr/>
        </p:nvSpPr>
        <p:spPr>
          <a:xfrm>
            <a:off x="4797360" y="2859120"/>
            <a:ext cx="998640" cy="473040"/>
          </a:xfrm>
          <a:prstGeom prst="rect">
            <a:avLst/>
          </a:prstGeom>
          <a:solidFill>
            <a:srgbClr val="1f43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D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587760" y="2852640"/>
            <a:ext cx="1065240" cy="473040"/>
          </a:xfrm>
          <a:prstGeom prst="rect">
            <a:avLst/>
          </a:prstGeom>
          <a:solidFill>
            <a:srgbClr val="712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14440" y="3483000"/>
            <a:ext cx="49006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38480" y="5432400"/>
            <a:ext cx="48783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147080" y="5265720"/>
            <a:ext cx="10317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3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16240" y="2776680"/>
            <a:ext cx="48909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66960" y="2955960"/>
            <a:ext cx="1420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454120" y="1928880"/>
            <a:ext cx="2732040" cy="776160"/>
            <a:chOff x="2454120" y="1928880"/>
            <a:chExt cx="2732040" cy="776160"/>
          </a:xfrm>
        </p:grpSpPr>
        <p:sp>
          <p:nvSpPr>
            <p:cNvPr id="105" name=""/>
            <p:cNvSpPr/>
            <p:nvPr/>
          </p:nvSpPr>
          <p:spPr>
            <a:xfrm>
              <a:off x="2454120" y="1928880"/>
              <a:ext cx="2732040" cy="77616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3057480" y="2057400"/>
              <a:ext cx="1571760" cy="51768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“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work Aware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"/>
          <p:cNvSpPr txBox="1"/>
          <p:nvPr/>
        </p:nvSpPr>
        <p:spPr>
          <a:xfrm>
            <a:off x="5500800" y="2031840"/>
            <a:ext cx="1309680" cy="517680"/>
          </a:xfrm>
          <a:prstGeom prst="rect">
            <a:avLst/>
          </a:prstGeom>
          <a:solidFill>
            <a:srgbClr val="6e004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13160" y="3927600"/>
            <a:ext cx="782640" cy="106380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489480" y="4240080"/>
            <a:ext cx="630360" cy="47304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22480" y="3549600"/>
            <a:ext cx="2263680" cy="2984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22480" y="5087880"/>
            <a:ext cx="2263680" cy="2840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22480" y="3549600"/>
            <a:ext cx="434880" cy="18223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05280" y="3776760"/>
            <a:ext cx="334800" cy="15127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27560" y="3927600"/>
            <a:ext cx="782640" cy="106380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470480" y="4230720"/>
            <a:ext cx="573120" cy="49212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444760" y="2852640"/>
            <a:ext cx="1065240" cy="473040"/>
          </a:xfrm>
          <a:prstGeom prst="rect">
            <a:avLst/>
          </a:prstGeom>
          <a:solidFill>
            <a:srgbClr val="b760f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D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Transport Independe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01480" y="1733400"/>
            <a:ext cx="814068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services can run over any network transport conforming to the TDI/NDIS spec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ed and supported over the built-in NetBEUI, TCP/IP and IPX/SPX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network administrators to migrate Windows networking into existing infrastructures without changing their topology/routing poli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73200" y="1542960"/>
            <a:ext cx="77979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s of Windows NT net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Windows NT network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s a connectivity plat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network API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Protocols Suppor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90720" y="127620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BEUI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fast protocol for LAN-based file, print, and client-server net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PX/SPX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llows NetWare-centric infrastructures to remain on IPX/SP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CP/IP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widely accepted internetworking protocol for enterprise networks and foreign host 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eTalk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used to provide file and print sharing to Macintosh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ing: Future Direc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00280" y="2552760"/>
            <a:ext cx="754380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is Microsoft’s strategic internetworking protocol for scalable Windows networ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Multiprovider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41560" y="1295280"/>
            <a:ext cx="716292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provider interface allows multiple network providers to integrate tightly with th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716200" y="4979880"/>
            <a:ext cx="1725480" cy="822240"/>
          </a:xfrm>
          <a:prstGeom prst="rect">
            <a:avLst/>
          </a:prstGeom>
          <a:gradFill rotWithShape="0">
            <a:gsLst>
              <a:gs pos="0">
                <a:srgbClr val="19327d"/>
              </a:gs>
              <a:gs pos="100000">
                <a:srgbClr val="3365fb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80240" y="4991040"/>
            <a:ext cx="1714680" cy="800280"/>
          </a:xfrm>
          <a:prstGeom prst="rect">
            <a:avLst/>
          </a:prstGeom>
          <a:gradFill rotWithShape="0">
            <a:gsLst>
              <a:gs pos="0">
                <a:srgbClr val="5f00aa"/>
              </a:gs>
              <a:gs pos="100000">
                <a:srgbClr val="8901f3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22840" y="4991040"/>
            <a:ext cx="1866960" cy="800280"/>
          </a:xfrm>
          <a:prstGeom prst="rect">
            <a:avLst/>
          </a:prstGeom>
          <a:gradFill rotWithShape="0">
            <a:gsLst>
              <a:gs pos="0">
                <a:srgbClr val="bf7400"/>
              </a:gs>
              <a:gs pos="100000">
                <a:srgbClr val="ef910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5440" y="3981600"/>
            <a:ext cx="5829480" cy="80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959200" y="4146480"/>
            <a:ext cx="524340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200" spc="-1" strike="noStrike">
                <a:solidFill>
                  <a:srgbClr val="05068f"/>
                </a:solidFill>
                <a:latin typeface="Times New Roman"/>
                <a:ea typeface="Times New Roman"/>
              </a:rPr>
              <a:t>Multiprovider Router (MP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50880" y="4495680"/>
            <a:ext cx="19191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917800" y="3048120"/>
            <a:ext cx="234000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975360" y="5129280"/>
            <a:ext cx="123516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89360" y="5129280"/>
            <a:ext cx="191916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534000" y="2895480"/>
            <a:ext cx="1943280" cy="685800"/>
          </a:xfrm>
          <a:prstGeom prst="rect">
            <a:avLst/>
          </a:prstGeom>
          <a:gradFill rotWithShape="0">
            <a:gsLst>
              <a:gs pos="0">
                <a:srgbClr val="005a51"/>
              </a:gs>
              <a:gs pos="100000">
                <a:srgbClr val="009688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Mg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ervice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01480" y="1733400"/>
            <a:ext cx="81406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to the UNIX inetd/daemon model, offering simpler management and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allows system service behavior to be controlled remotely by the network administ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run as “detached processes” under any account context without requiring an active login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es readily to network services - ftp server, file server, macintosh services, etc., all implemented as system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2440" y="228600"/>
            <a:ext cx="84391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ing Windows NT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27240" y="1562040"/>
            <a:ext cx="607680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e system services easily through a common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46160" y="2752560"/>
            <a:ext cx="7053120" cy="3672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213680" y="1662120"/>
            <a:ext cx="7048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09640" y="225252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s A Connectivity Platfor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s A Connectivity Platfor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4120" y="1835280"/>
            <a:ext cx="83757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foreign-system connectivity products will be developed by third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nd Windows NT Advanced Server will offer connectivity services for UNIX and Macintosh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IPX/SPX protocol for NetWare 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 Services offers dialin conne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operates With UNIX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06440" y="1676520"/>
            <a:ext cx="833112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TCP/IP protocol support facilitates basic connectivity out-of-the-b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ties supported include: ftp, tftp, telnet, r* commands, arp, route, fi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ghtly-integrated, easy to manage FTP server service offered in Windows NT and Windows NT Advanced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 parties developing support for other protocols including X Windows, SMTP, POP, Gopher, and N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operates With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a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76440" y="1809720"/>
            <a:ext cx="779148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IPX/SPX protocol support allows NetWare clients to participate with client-server applications (e.g., SQL serv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 redirector under development by Novell (currently in beta) allows NT systems to access NetWare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services (file, print, e-mail) can run natively over IPX/SP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operates With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cintosh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28760" y="1657440"/>
            <a:ext cx="828684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for Macintosh (Advanced Server) offers concurrent file and print sharing with Macintosh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es are considered equal citizens in Windows NT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ght printing integration allows Macs to print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nter with a Windows NT printer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 authentication module allows Macs to login using Windows NT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809640" y="213840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 Of Windows NT Network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24000" y="228600"/>
            <a:ext cx="8496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dvanced Server Services For Macintos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51160" y="2265480"/>
            <a:ext cx="1114560" cy="538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863800" y="4175280"/>
            <a:ext cx="838080" cy="781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623960" y="2414520"/>
            <a:ext cx="1042920" cy="928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58800" y="3838680"/>
            <a:ext cx="7156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77960" y="3276720"/>
            <a:ext cx="0" cy="538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1000" y="383868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30240" y="2120760"/>
            <a:ext cx="140328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5010120" y="4162320"/>
            <a:ext cx="1238400" cy="9050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473800" y="384804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062760" y="4253040"/>
            <a:ext cx="89532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5091120" y="2647800"/>
            <a:ext cx="1114560" cy="5382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673600" y="3170160"/>
            <a:ext cx="0" cy="63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248520" y="2425680"/>
            <a:ext cx="93024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eTal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Scrip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157480" y="5008680"/>
            <a:ext cx="131616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85960" y="2576520"/>
            <a:ext cx="582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643200" y="2806560"/>
            <a:ext cx="8064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Interoperates With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alin Cli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01480" y="1638360"/>
            <a:ext cx="81406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 service (RAS) allows MS-DOS, Windows and Windows NT systems to dialin from the r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in client is an extended node on the network over modem, ISDN and X.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network resources available remotely, including full administration cap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architecture allows other dialin protocol support (e.g., PPP) to be added by third parties, or in the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49120" y="228600"/>
            <a:ext cx="8645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dvanced Server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mote Access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727440" y="4881600"/>
            <a:ext cx="990720" cy="10288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379760" y="5770440"/>
            <a:ext cx="914400" cy="96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94440" y="5538960"/>
            <a:ext cx="95040" cy="314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194440" y="4419720"/>
            <a:ext cx="1166760" cy="1104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06400" y="3565440"/>
            <a:ext cx="60073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303720" y="4684680"/>
            <a:ext cx="17352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 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076640" y="2332080"/>
            <a:ext cx="1042920" cy="928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466040" y="357336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539040" y="2085840"/>
            <a:ext cx="754200" cy="11494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1471680" y="2633760"/>
            <a:ext cx="838080" cy="743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1015920" y="2281320"/>
            <a:ext cx="19051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Prin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546360" y="1874880"/>
            <a:ext cx="1384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ha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-mail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297560" y="1901880"/>
            <a:ext cx="831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6632640" y="3919680"/>
            <a:ext cx="1042920" cy="928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5557680" y="3701880"/>
            <a:ext cx="140328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77160" y="323388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86320" y="322092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22640" y="323532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09640" y="215748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 API Suppor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Network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162160" y="1835280"/>
            <a:ext cx="481968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-compliant 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/Named Pi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D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Sock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43040" y="1428840"/>
            <a:ext cx="765828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SD-style sockets interface “enhanced” for Windows environment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compat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by over 30 cooperating vendors in the industry - both stack and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compatibility allows freedom of choice for network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both 16- and 32-bit applications under Windows 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interface can be used to develop TCP/IP, IPX/SPX, and AppleTalk applications under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613640" y="228600"/>
            <a:ext cx="1103760" cy="976680"/>
            <a:chOff x="7613640" y="228600"/>
            <a:chExt cx="1103760" cy="97668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7632720" y="241200"/>
              <a:ext cx="1060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7613640" y="958680"/>
              <a:ext cx="916200" cy="241560"/>
            </a:xfrm>
            <a:custGeom>
              <a:avLst/>
              <a:gdLst/>
              <a:ahLst/>
              <a:rect l="0" t="0" r="r" b="b"/>
              <a:pathLst>
                <a:path w="2545" h="671">
                  <a:moveTo>
                    <a:pt x="0" y="0"/>
                  </a:moveTo>
                  <a:lnTo>
                    <a:pt x="1623" y="0"/>
                  </a:lnTo>
                  <a:lnTo>
                    <a:pt x="1623" y="249"/>
                  </a:lnTo>
                  <a:lnTo>
                    <a:pt x="1715" y="249"/>
                  </a:lnTo>
                  <a:lnTo>
                    <a:pt x="1711" y="342"/>
                  </a:lnTo>
                  <a:lnTo>
                    <a:pt x="1810" y="338"/>
                  </a:lnTo>
                  <a:lnTo>
                    <a:pt x="1810" y="417"/>
                  </a:lnTo>
                  <a:lnTo>
                    <a:pt x="1906" y="417"/>
                  </a:lnTo>
                  <a:lnTo>
                    <a:pt x="1906" y="500"/>
                  </a:lnTo>
                  <a:lnTo>
                    <a:pt x="1994" y="496"/>
                  </a:lnTo>
                  <a:lnTo>
                    <a:pt x="1994" y="583"/>
                  </a:lnTo>
                  <a:lnTo>
                    <a:pt x="2545" y="583"/>
                  </a:lnTo>
                  <a:lnTo>
                    <a:pt x="2545" y="671"/>
                  </a:lnTo>
                  <a:lnTo>
                    <a:pt x="42" y="6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298000" y="228600"/>
              <a:ext cx="419400" cy="976680"/>
            </a:xfrm>
            <a:custGeom>
              <a:avLst/>
              <a:gdLst/>
              <a:ahLst/>
              <a:rect l="0" t="0" r="r" b="b"/>
              <a:pathLst>
                <a:path w="1165" h="2713">
                  <a:moveTo>
                    <a:pt x="95" y="25"/>
                  </a:moveTo>
                  <a:lnTo>
                    <a:pt x="95" y="1281"/>
                  </a:lnTo>
                  <a:lnTo>
                    <a:pt x="0" y="1277"/>
                  </a:lnTo>
                  <a:lnTo>
                    <a:pt x="0" y="1365"/>
                  </a:lnTo>
                  <a:lnTo>
                    <a:pt x="91" y="1365"/>
                  </a:lnTo>
                  <a:lnTo>
                    <a:pt x="91" y="1448"/>
                  </a:lnTo>
                  <a:lnTo>
                    <a:pt x="187" y="1448"/>
                  </a:lnTo>
                  <a:lnTo>
                    <a:pt x="187" y="1536"/>
                  </a:lnTo>
                  <a:lnTo>
                    <a:pt x="274" y="1540"/>
                  </a:lnTo>
                  <a:lnTo>
                    <a:pt x="274" y="1615"/>
                  </a:lnTo>
                  <a:lnTo>
                    <a:pt x="642" y="1615"/>
                  </a:lnTo>
                  <a:lnTo>
                    <a:pt x="642" y="1699"/>
                  </a:lnTo>
                  <a:lnTo>
                    <a:pt x="737" y="1699"/>
                  </a:lnTo>
                  <a:lnTo>
                    <a:pt x="737" y="1778"/>
                  </a:lnTo>
                  <a:lnTo>
                    <a:pt x="833" y="1778"/>
                  </a:lnTo>
                  <a:lnTo>
                    <a:pt x="833" y="1866"/>
                  </a:lnTo>
                  <a:lnTo>
                    <a:pt x="920" y="1866"/>
                  </a:lnTo>
                  <a:lnTo>
                    <a:pt x="920" y="2367"/>
                  </a:lnTo>
                  <a:lnTo>
                    <a:pt x="833" y="2367"/>
                  </a:lnTo>
                  <a:lnTo>
                    <a:pt x="833" y="2442"/>
                  </a:lnTo>
                  <a:lnTo>
                    <a:pt x="924" y="2442"/>
                  </a:lnTo>
                  <a:lnTo>
                    <a:pt x="924" y="2526"/>
                  </a:lnTo>
                  <a:lnTo>
                    <a:pt x="1016" y="2526"/>
                  </a:lnTo>
                  <a:lnTo>
                    <a:pt x="1016" y="2605"/>
                  </a:lnTo>
                  <a:lnTo>
                    <a:pt x="920" y="2605"/>
                  </a:lnTo>
                  <a:lnTo>
                    <a:pt x="924" y="2526"/>
                  </a:lnTo>
                  <a:lnTo>
                    <a:pt x="833" y="2526"/>
                  </a:lnTo>
                  <a:lnTo>
                    <a:pt x="833" y="2613"/>
                  </a:lnTo>
                  <a:lnTo>
                    <a:pt x="737" y="2605"/>
                  </a:lnTo>
                  <a:lnTo>
                    <a:pt x="737" y="2705"/>
                  </a:lnTo>
                  <a:lnTo>
                    <a:pt x="1165" y="2713"/>
                  </a:lnTo>
                  <a:lnTo>
                    <a:pt x="1146" y="0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CE-Compliant RP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90720" y="1467000"/>
            <a:ext cx="7162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C mechanism for distributed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/DCE compliance allows interoperability with other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  framework, used by built-in administration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le architecture independent of security model or network tran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BIOS/Named Pip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990720" y="142884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and Named Pipes offer source portability of existing client-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 offer secure IPC mechanism for client-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features include impersonation and async I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ed as a fil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09640" y="228600"/>
            <a:ext cx="7524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Net (Win-net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61960" y="1066680"/>
            <a:ext cx="802008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multiple prov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ers consistent APIs and common dialogs for network browsing and connection establish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on of the Windows 3.x WNet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09640" y="3790800"/>
            <a:ext cx="752472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D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91960" y="4844880"/>
            <a:ext cx="85597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s local DDE (dynamic data exchange) model for network u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ll-leveraged in workgroup enviro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ackag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114560" y="1295280"/>
            <a:ext cx="69152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operating system, includes full network sup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rchased separately, or as an upgrade from Windows 3.x or OS/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s enhanced administration tools, and replicated user account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fault tolerance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dialin and Macintosh cl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rchased separately, or as an upgrade from LAN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52600" y="228600"/>
            <a:ext cx="80391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als Of Windows NT Networ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1714680"/>
            <a:ext cx="716292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asy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uild well-integrated network services (file/print sharing, e-mail)  into the base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protect services and actions through centralized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dhere to open standards, collaboration with other vend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leverage built-in fault tole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operabl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support other types of networks, support third party eff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66760" y="1263600"/>
            <a:ext cx="861048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ntegrates very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s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ing facilities as a natural extension of the base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lows Windows NT to participate in existing infrastru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l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rchitecture allows ease integration of other networking techn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system offers a solid framework for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vit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foreign systems - third parties are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support and fault tolerance features makes Windows NT the ideal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l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rver plat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155680" y="704880"/>
            <a:ext cx="483228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 Plugged In.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01760" y="1047600"/>
            <a:ext cx="8340840" cy="56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et/MSDN services from Micros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mailing list:         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sock-request@microdyn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specification, source, etc. available from: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dyn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article in July Microsoft Systems Jour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nonymous FTP test server: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ino.microsoft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 e-mail address: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llard@microsoft.com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network-related issues onl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lea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asy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42880" y="1771560"/>
            <a:ext cx="805824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support is a natural extension of the base system and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tools facilitate access to network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s can be grouped into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group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lowing for hierarchical browsing of network re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nd administration model identical on both local and networked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e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6880" y="1676520"/>
            <a:ext cx="848988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2-certifiable system extends the local security model to the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database replicated between advanced server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file system (NTFS) offers built in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emely flexible access control model allows control of access rights for multiple users and groups on the same re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provides secure control of administration tools and distributed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19040" y="1809720"/>
            <a:ext cx="830592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offers a plug-and-play architecture allowing support for alternate protocols, networks, and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networking based on open standar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and SN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-compliant R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-independent UI and API support through WNet and common dialog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liable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79360" y="1733400"/>
            <a:ext cx="8585280" cy="39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ght integration of networking in the base system allows reliability features of Windows NT to apply to networking as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3049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icated user account database allows access and authentication should an advanced server go off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3049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ID5 and disk mirroring support provides reliable high-performance 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3049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FS file system offers high recover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3049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ve UPS support allows network servers to remain online when power is interrup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Is Windows NT Networking </a:t>
            </a: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operable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61800" y="1733400"/>
            <a:ext cx="84200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support for industry standards allows NT to participate in heterogeneous networked enviro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and IPX/SPX protocols built-in offering basis for UNIX and NetWare conne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compliant RPC for distributed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mendous third party support in this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Windows, NFS under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