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656320" y="57240"/>
            <a:ext cx="3405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Beaver93101 Xhibition ‘93 (1st talk) 6/93 </a:t>
            </a:r>
            <a:fld id="{85853680-C324-41D2-B5ED-03C37C035105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96960" y="987480"/>
            <a:ext cx="775188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threaded Application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ve Beav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Relations Group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1800" y="1263600"/>
            <a:ext cx="554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 I/O capability is very importan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Ex Calls Delayed Notification of IO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is via your choice of event or call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cts underlying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79600" y="1628640"/>
            <a:ext cx="798516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applications exist to all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MP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ogramming paradig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tructured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on and scheduling occurs at the thread, not process,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“Life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49280" y="2971800"/>
            <a:ext cx="13906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5360" indent="-49536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5800" y="1581120"/>
            <a:ext cx="0" cy="3695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5276880"/>
            <a:ext cx="6291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3880" y="3981600"/>
            <a:ext cx="1339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29000" y="2249640"/>
            <a:ext cx="1044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776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86200" y="53071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38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5307120"/>
            <a:ext cx="650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53120" y="5307120"/>
            <a:ext cx="1114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4320" y="5691240"/>
            <a:ext cx="97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15120" y="2782800"/>
            <a:ext cx="1574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r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54280" y="6172200"/>
            <a:ext cx="1028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35000" y="202392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1400" y="4229280"/>
            <a:ext cx="7808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249720" y="3200400"/>
            <a:ext cx="0" cy="1009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8080" y="3081240"/>
            <a:ext cx="1904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24560" y="2249640"/>
            <a:ext cx="1228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92720" y="2876400"/>
            <a:ext cx="304560" cy="41940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26320" y="3543480"/>
            <a:ext cx="209520" cy="3999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3552840"/>
            <a:ext cx="686160" cy="1724400"/>
          </a:xfrm>
          <a:custGeom>
            <a:avLst/>
            <a:gdLst/>
            <a:ahLst/>
            <a:rect l="0" t="0" r="r" b="b"/>
            <a:pathLst>
              <a:path w="1906" h="4790">
                <a:moveTo>
                  <a:pt x="0" y="0"/>
                </a:moveTo>
                <a:lnTo>
                  <a:pt x="1006" y="0"/>
                </a:lnTo>
                <a:lnTo>
                  <a:pt x="1006" y="635"/>
                </a:lnTo>
                <a:lnTo>
                  <a:pt x="1906" y="635"/>
                </a:lnTo>
                <a:lnTo>
                  <a:pt x="1906" y="4790"/>
                </a:lnTo>
                <a:lnTo>
                  <a:pt x="0" y="47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3995"/>
              </a:gs>
              <a:gs pos="100000">
                <a:srgbClr val="b760f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1960" y="3085920"/>
            <a:ext cx="1095840" cy="2190960"/>
          </a:xfrm>
          <a:custGeom>
            <a:avLst/>
            <a:gdLst/>
            <a:ahLst/>
            <a:rect l="0" t="0" r="r" b="b"/>
            <a:pathLst>
              <a:path w="3044" h="6086">
                <a:moveTo>
                  <a:pt x="3044" y="2010"/>
                </a:moveTo>
                <a:lnTo>
                  <a:pt x="3044" y="6086"/>
                </a:lnTo>
                <a:lnTo>
                  <a:pt x="0" y="6086"/>
                </a:lnTo>
                <a:lnTo>
                  <a:pt x="0" y="0"/>
                </a:lnTo>
                <a:lnTo>
                  <a:pt x="1006" y="0"/>
                </a:lnTo>
                <a:lnTo>
                  <a:pt x="1006" y="1270"/>
                </a:lnTo>
                <a:lnTo>
                  <a:pt x="2011" y="1270"/>
                </a:lnTo>
                <a:lnTo>
                  <a:pt x="2011" y="2010"/>
                </a:lnTo>
                <a:lnTo>
                  <a:pt x="3044" y="2010"/>
                </a:lnTo>
                <a:close/>
              </a:path>
            </a:pathLst>
          </a:custGeom>
          <a:gradFill rotWithShape="0">
            <a:gsLst>
              <a:gs pos="0">
                <a:srgbClr val="997641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78720" y="3571920"/>
            <a:ext cx="1743480" cy="1705320"/>
          </a:xfrm>
          <a:custGeom>
            <a:avLst/>
            <a:gdLst/>
            <a:ahLst/>
            <a:rect l="0" t="0" r="r" b="b"/>
            <a:pathLst>
              <a:path w="4843" h="4737">
                <a:moveTo>
                  <a:pt x="0" y="4737"/>
                </a:moveTo>
                <a:lnTo>
                  <a:pt x="0" y="0"/>
                </a:lnTo>
                <a:lnTo>
                  <a:pt x="1005" y="0"/>
                </a:lnTo>
                <a:lnTo>
                  <a:pt x="1005" y="1058"/>
                </a:lnTo>
                <a:lnTo>
                  <a:pt x="2011" y="1058"/>
                </a:lnTo>
                <a:lnTo>
                  <a:pt x="2011" y="1825"/>
                </a:lnTo>
                <a:lnTo>
                  <a:pt x="4843" y="1825"/>
                </a:lnTo>
                <a:lnTo>
                  <a:pt x="4843" y="4737"/>
                </a:lnTo>
                <a:lnTo>
                  <a:pt x="0" y="4737"/>
                </a:lnTo>
                <a:close/>
              </a:path>
            </a:pathLst>
          </a:custGeom>
          <a:gradFill rotWithShape="0">
            <a:gsLst>
              <a:gs pos="0">
                <a:srgbClr val="0c7e73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91040" y="228600"/>
            <a:ext cx="27622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320840"/>
            <a:ext cx="6858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threads per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are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reads may make graphics and window management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l thread local storage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ynchronize thread access to memory (multiprocessor sa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81320" y="228600"/>
            <a:ext cx="2781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51128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mptiv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prior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have per-process initialization and termination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-thread err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29000" y="228600"/>
            <a:ext cx="4086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ad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97160" y="1400040"/>
            <a:ext cx="63514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Thread/WaitFor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hreadExit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/Exit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pend/Resume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Thread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sAlloc/TlsFree/TlsGet/Tl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19240" y="228600"/>
            <a:ext cx="5105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81160" y="1211400"/>
            <a:ext cx="678168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- fast mutual exclusion for threads within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- signals the occurrence of an event; sharable between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- sharable critical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 - traditional counting semaphore; sha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wait on single/mult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8600" y="1311120"/>
            <a:ext cx="68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ynchronization via Waitxx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wait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,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M_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change no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ny object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33400" y="228600"/>
            <a:ext cx="5676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/O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52520" y="1428840"/>
            <a:ext cx="643896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and ANSI entry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file names (on appropriate F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 support via ReadFile, ReadFileEx, WriteFile, and WriteFile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backs and waitable objects, not Sign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