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BACD36-37E8-4464-A021-C7AF85D96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ze that the Mac has had more than one file system -- first, the Macintosh File System (MFS), then the Hierarchical File System (HFS).  NTFS is a similar evolution from FAT, but going much far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al bullet seems to run off of th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es beyond the peer-to-peer capabilities of W4W or Mac System 7.0; it’s like having AppleShare built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Lanman be two words, e.g., LAN Manager?  These guys will, many of them, never heard of it before, so we ought not abbrevi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64160" y="12600"/>
            <a:ext cx="3559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g Henrich93101 (2nd talk) Xhibition ‘93 6/93 </a:t>
            </a:r>
            <a:fld id="{E761AD24-CE9E-408C-A5C6-33D37A10B8E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14560" y="861840"/>
            <a:ext cx="6915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latforms For Win32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pplication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ug Henrich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up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68120" y="228600"/>
            <a:ext cx="880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Conceptua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124080" y="1371600"/>
            <a:ext cx="3429000" cy="12574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743200"/>
            <a:ext cx="365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55600" y="2373480"/>
            <a:ext cx="1809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er DL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2857680"/>
            <a:ext cx="3429000" cy="1600200"/>
          </a:xfrm>
          <a:prstGeom prst="rect">
            <a:avLst/>
          </a:prstGeom>
          <a:gradFill rotWithShape="0">
            <a:gsLst>
              <a:gs pos="0">
                <a:srgbClr val="14d3c1"/>
              </a:gs>
              <a:gs pos="100000">
                <a:srgbClr val="0c7e73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52720" y="3763800"/>
            <a:ext cx="20289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6040" y="3138480"/>
            <a:ext cx="160668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3640" y="5051520"/>
            <a:ext cx="79567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32 calls are thunked to 16-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962520" y="1219320"/>
            <a:ext cx="152388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43080" y="6019920"/>
            <a:ext cx="8458200" cy="5144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9960" y="5334120"/>
            <a:ext cx="1733400" cy="49536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bd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05080" y="5353200"/>
            <a:ext cx="1771560" cy="49536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10200" y="5334120"/>
            <a:ext cx="17146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 Vx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91040" y="4191120"/>
            <a:ext cx="129528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10280" y="4191120"/>
            <a:ext cx="198108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ys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162920" y="3200400"/>
            <a:ext cx="16765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el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6200" y="4191120"/>
            <a:ext cx="99072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52720" y="4191120"/>
            <a:ext cx="819000" cy="53352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3200400"/>
            <a:ext cx="236232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16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3200400"/>
            <a:ext cx="2057400" cy="53352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905120"/>
            <a:ext cx="251460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2sKrnl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4120" y="1905120"/>
            <a:ext cx="175248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315200" y="1905120"/>
            <a:ext cx="1676520" cy="609480"/>
          </a:xfrm>
          <a:prstGeom prst="rect">
            <a:avLst/>
          </a:prstGeom>
          <a:gradFill rotWithShape="0">
            <a:gsLst>
              <a:gs pos="0">
                <a:srgbClr val="0e9387"/>
              </a:gs>
              <a:gs pos="100000">
                <a:srgbClr val="14d3c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029200"/>
            <a:ext cx="76582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666880"/>
            <a:ext cx="1600560" cy="2591280"/>
          </a:xfrm>
          <a:custGeom>
            <a:avLst/>
            <a:gdLst/>
            <a:ahLst/>
            <a:rect l="0" t="0" r="r" b="b"/>
            <a:pathLst>
              <a:path fill="none" w="4446" h="7198">
                <a:moveTo>
                  <a:pt x="0" y="0"/>
                </a:moveTo>
                <a:lnTo>
                  <a:pt x="0" y="0"/>
                </a:lnTo>
                <a:cubicBezTo>
                  <a:pt x="0" y="1264"/>
                  <a:pt x="205" y="2505"/>
                  <a:pt x="596" y="3599"/>
                </a:cubicBezTo>
                <a:cubicBezTo>
                  <a:pt x="986" y="4693"/>
                  <a:pt x="1547" y="5602"/>
                  <a:pt x="2223" y="6234"/>
                </a:cubicBezTo>
                <a:cubicBezTo>
                  <a:pt x="2899" y="6865"/>
                  <a:pt x="3666" y="7198"/>
                  <a:pt x="4446" y="7198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80988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5909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2590920"/>
            <a:ext cx="13716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276720" y="2590920"/>
            <a:ext cx="27432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09880" y="2590920"/>
            <a:ext cx="4114800" cy="457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324480" y="1219320"/>
            <a:ext cx="5040" cy="6094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1371600"/>
            <a:ext cx="1067040" cy="457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505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60984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809880"/>
            <a:ext cx="106668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733920"/>
            <a:ext cx="2133360" cy="304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8006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895480"/>
            <a:ext cx="77724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2280" y="4853160"/>
            <a:ext cx="825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2280" y="111924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2280" y="3557520"/>
            <a:ext cx="82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1960" y="810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tailed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838080"/>
            <a:ext cx="2971800" cy="533520"/>
          </a:xfrm>
          <a:prstGeom prst="rect">
            <a:avLst/>
          </a:prstGeom>
          <a:gradFill rotWithShape="0">
            <a:gsLst>
              <a:gs pos="0">
                <a:srgbClr val="8043ae"/>
              </a:gs>
              <a:gs pos="100000">
                <a:srgbClr val="b760f9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3200" y="1162080"/>
            <a:ext cx="7797960" cy="52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tools required to build Win32 apps. for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build process or unique link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Win32s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SDK on 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vendors will provide 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        Windows 3.1-hoste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 WinDbg on Windows NT will remotely debug Win32 apps. on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7640" y="22860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ipping Win32 Applications For Windows 3.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9640" y="1943280"/>
            <a:ext cx="75247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xD and DLLs approximately 500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vides Win32s setu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if Win32s already inst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Win32 app. and Win32s on Windows 3.1 (running in enhanced mo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stall Win32 app. on Windows NT  (not Win32s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version checks Win32s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82680"/>
            <a:ext cx="73152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Windows 3.1 running in enhanced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cooperative message-based non-preemptive multit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 input mod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s compatibility in multitasking Windows NT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3152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otection from other processes (16 or 3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shared DLL data (no instance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and memory usage of each process affects every oth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3 FAT fil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ong filenames, async file I/O or AC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relies on Windows 3.1 G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3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aths, advanced transforms or bezier cu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icod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0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4520" y="933480"/>
            <a:ext cx="6114960" cy="57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l 1.0  shipped with March Windows NT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flat address space (512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rse memory (Virtual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p management (HeapAllo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shar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 (API and compiler sup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 (SE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messag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A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th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1.1 API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59040" y="1581120"/>
            <a:ext cx="542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simultaneously with Windows NT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features provided by Win3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 1.0 features pl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version of OLE 2.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57320" y="1523880"/>
            <a:ext cx="70293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uniprocessor, x86 multiprocessor, MIPS R4000, DEC Alpha, Inter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able at DOD C2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16, Win32, MS-DOS, POSIX, OS/2 16-bit character ap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86080" y="1314360"/>
            <a:ext cx="6172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ddress spaces,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transport and third-party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, remote configuration, workgroup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16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9060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supported by all platforms, now and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last major 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7356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(Windows for Workgro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697360" y="4348080"/>
            <a:ext cx="2054160" cy="10620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9400" y="4348080"/>
            <a:ext cx="1996920" cy="102384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ar Windows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9400" y="3257640"/>
            <a:ext cx="6645240" cy="914400"/>
          </a:xfrm>
          <a:prstGeom prst="rect">
            <a:avLst/>
          </a:prstGeom>
          <a:gradFill rotWithShape="0">
            <a:gsLst>
              <a:gs pos="0">
                <a:srgbClr val="12bdad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16-bit (Win16) application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7000" y="6113520"/>
            <a:ext cx="124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1160" y="1486080"/>
            <a:ext cx="67816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gain capacity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process 32-bit flat address space (2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on 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message queues for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228600"/>
            <a:ext cx="8785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ystem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3160" y="1246320"/>
            <a:ext cx="6997680" cy="52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ble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, HPF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-recoverable (no long FS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-bit addressing - removes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 support (8.3 auto-gene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tole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fix support for bad disk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ing, duplexing, spanning, striping, RAID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01640" y="228600"/>
            <a:ext cx="7740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Configu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48608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registration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 textual setup files (*.ini and config.s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-compatible with Windows 3.1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dataspace per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/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 API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23920" y="228600"/>
            <a:ext cx="6896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3.1 Integrated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2280" y="2185920"/>
            <a:ext cx="829944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rver and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the base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compatible with LAN Manager 2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ultiple third-party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, Banyan, NFS in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 - TCP/IP, NetBEUI, DL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228600"/>
            <a:ext cx="7010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national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0400" y="1941480"/>
            <a:ext cx="79628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Win32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L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 conversion, sorting, date/time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5 international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ed versions of 1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, German, Spanish, Italian, Swedish, Du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argeted at Japanese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months after Windows NT 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ggested Action It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4840" y="1257480"/>
            <a:ext cx="81946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32s for products with Windows 3.1 support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Windows NT f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graphic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lient-server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sion critical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-critical applications running on MP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for Win32s are real 32-bit apps. that are binary-compatible on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Win32 apps. on Win32s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85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ront-end tools to construct graphical user interface on top of non-GUI UNIX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46440" y="3848040"/>
            <a:ext cx="4572000" cy="1905120"/>
          </a:xfrm>
          <a:prstGeom prst="rect">
            <a:avLst/>
          </a:prstGeom>
          <a:gradFill rotWithShape="0">
            <a:gsLst>
              <a:gs pos="0">
                <a:srgbClr val="a2005e"/>
              </a:gs>
              <a:gs pos="100000">
                <a:srgbClr val="b5006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28600"/>
            <a:ext cx="7162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Is:  The 32-Bi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6440" y="4743360"/>
            <a:ext cx="3651120" cy="100980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LE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28640" y="1177920"/>
            <a:ext cx="588816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for new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 provided for installed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provide compatibility across Window family platforms (binary compatibility when on x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1520" y="4956120"/>
            <a:ext cx="14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6000" y="52005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1120" y="39243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0" y="4152960"/>
            <a:ext cx="692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Win32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08080" y="1542960"/>
            <a:ext cx="6927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Win32 versions of existing 16-bit application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/API features determine the platform you deplo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s. have the performance and feature advantage on all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dows 3.1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7800" y="1085760"/>
            <a:ext cx="744840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25 million copies shi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 million copies shipping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programming model (win32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multitasking (Vx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6 MB virtual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, multiple protocol support (NFS, NetWare, Banyan, SNA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uilt-in gam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Target Win32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87400" y="1095480"/>
            <a:ext cx="7369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ge installed base to sell 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Win32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Windows NT features provided by Win32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/capacity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have linear address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gments (0: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binaries run Windows 3.1 and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API is fully compatible subset of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222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run as native Win32 applications on Windows 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Defines An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57160" y="1371600"/>
            <a:ext cx="742968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API stretched to 3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Win32 API that is compatible with Win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equivalents for Windows 3.1 APIs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several powerful Windows NT features for Win32 apps.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Is Also A Produ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04920" y="1619280"/>
            <a:ext cx="67341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is distributed in tool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ed to tool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DLLs (Shared Librar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s Vx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s ship DLLs and VxD with their 32-bit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nd VxD run on Windows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32s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9640" y="1600200"/>
            <a:ext cx="75247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-compatible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Executable file form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-compatible with Windows NT on x86, MIP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40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DE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written to Win32s API are real Win32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