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9400" y="12600"/>
            <a:ext cx="34020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an Moran93101 Xhibition’93 (1st talk) 6/93 </a:t>
            </a:r>
            <a:fld id="{C0A3C40A-0DE0-4867-BDBD-681384A9895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885960" y="789120"/>
            <a:ext cx="737244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For The UNIX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Familiar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 Mora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04920" y="1866960"/>
            <a:ext cx="49338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cod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19280" y="228600"/>
            <a:ext cx="5905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09600" y="1987560"/>
            <a:ext cx="6724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doesn’t run on local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may have different look and f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’t take advantage of features like OLE and 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is not a         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52360" y="1657440"/>
            <a:ext cx="6838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eature-rich programming interface for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with ANSI C, C run-tim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or GUI applications, or a hybrid of b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2920" y="228600"/>
            <a:ext cx="88581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as For Attention When Porting To Windows N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47840" y="1841400"/>
            <a:ext cx="46483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/I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Hints: 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54160" y="1365120"/>
            <a:ext cx="68374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he C run time FIRST to determine if your functionality is supported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lications move easily since C run times are similar; most “section 2” AP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lp32.exe, msc.hlp contains online C run-time 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for side effects:  e.g. signals, file descriptor inheritanc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686040"/>
            <a:ext cx="62866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Mod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14479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process and threa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(...) almost == fork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” processes ar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control includes “real-time” priority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Object() can be used for pause() and waitpid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360" y="228600"/>
            <a:ext cx="8854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UNIX Fork And Exe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5880" y="1203480"/>
            <a:ext cx="5772240" cy="515304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rudimentary fork example for Unix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 pid; /* process i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 = fork(); /* new  process created her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pid&gt;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((int *)0); printf("Completed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if  (0==pid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l("/bin/ls","ls","-l",(char *)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ror("execl failed!\n");exit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ork didn't work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05000" y="228600"/>
            <a:ext cx="6534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9040" y="1619280"/>
            <a:ext cx="8305920" cy="498168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windows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MAXNAMELE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CMDLIN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/c di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IMAGENA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\\nt\\bin\\cmd.ex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define WINTIT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CreateProcess DEM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,fEx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ExitCode,d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INF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_INFORM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,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cb =sizeof(STARTUPINFO); SI.lpReserved = NULL;SI.lpDesktop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.lpTitle="CreateProcess DEMO";SI.cbReserved2=0;SI.lpReserved2=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228680" y="228600"/>
            <a:ext cx="668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 - Windows NT Create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0600" y="1730520"/>
            <a:ext cx="8362800" cy="4513320"/>
          </a:xfrm>
          <a:prstGeom prst="rect">
            <a:avLst/>
          </a:pr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uccess = CreateProcess((LPTSTR)IMAGENAME, (LPTSTR)CMDL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ECURITY_ATTRIBUTES)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OOL)TRUE,(DWORD)0,NULL,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 indent="-38880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PSTARTUPINFO)&amp;SI,(LPPROCESS_INFORMATION)&amp;pi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fSuccess) {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rocess = pi.hProcess;    hThread = pi.hThre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Process Id = %d\nThread Id = %d\n",pi.dwProcessId,pi.dwThread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 = WaitForSingleObject(hProcess, INFINIT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dw != 0xFFFFFFFF) { /* if we saw succes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pick up an exit code for the pro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xit = GetExitCodeProcess(hProcess, &amp;dwExit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close the process and thread object handle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hThread) ;    CloseHandle(hProces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COMPLETED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Aft>
                <a:spcPts val="241"/>
              </a:spcAf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Failed to CreateProcess\n"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gn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0200" y="1467000"/>
            <a:ext cx="8283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n signal types supported:  SIGFPE, SIGILL, SIGSEGV, SIGINT, SIGBREAK,  SIGABRT, SIGTER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ABRT and SIGTERM signalled by raise(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ed on thread that caused sig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other functionality, use asynchronous I/O structures (callbacks), or wait on handles   (e.g. SIGCHL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ructured exception hand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962000" y="228600"/>
            <a:ext cx="5219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fferent Aspec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314440" y="1903320"/>
            <a:ext cx="4514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 environment/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60240" y="1492200"/>
            <a:ext cx="7823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standard C run time (fopen, fread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ovides 64-bit file access - SetFilePointer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 non-blocking file I/O, use Win32 APIs CreateFile(), ReadFile(), Write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concurrent access, consider using memory-mapped files, or LockFile()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Operation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97160"/>
            <a:ext cx="71629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file names (see File System inform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s will do “right thing” with ‘/’ file sepa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descriptors 0, 1, 2 correspond to stdin, stdout, stderr (no number guarant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inode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.st_ino is z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479600"/>
            <a:ext cx="788688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-  accommodates different file system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, NTFS, network redirecto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ode may have to  deal with case insensitivity, 8.3 file names, drive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inks in Win32, no mounts (Hint:  use POSIX subsystem to perform ln(), if you need it - only supported on NTFS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e Systems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4880" y="1752480"/>
            <a:ext cx="82738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has concept of “drive volumes” and current directory on each drive              (e.g. “a:\; c:\fubar;d:\NTFS_file_dire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GetVolumeInformation() to find out about file systems/redir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rminal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47600" y="1498680"/>
            <a:ext cx="70484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nsole functions, in general, to move character applications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es functionality available on CompuServ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Data, Citrix will have “dumb” terminal cap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uent can drive X terminals with their X client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52360" y="1428840"/>
            <a:ext cx="6838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bjects in Windows NT have security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nd processes have security IDs (SI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threads/processes execute at minimum level of permission, i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ID” accomplished through imperso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4720" y="1282680"/>
            <a:ext cx="81342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multiple redirector (file system) interf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:  pipes, named pipes, named shared memory, semaphores, mutexes,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can be na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“gives away” access to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exposed through WINSOCK API; moving socket code generally eas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used internally for protocol stac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ing/IPC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360" y="1130400"/>
            <a:ext cx="81532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Client utilities provided in Windows NT product -- FTP server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TCP/IP server utilities available via Internet and CompuServe (source form!) (e.g. NFS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, available from Sun, FTP Software, NetManage, Frontier, Beam and Whiteside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nnection-oriented RPC available in the box - ONC RPC available from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040" y="1308240"/>
            <a:ext cx="83059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brk or sbrk - use standard memory management functions (malloc, free, etc.)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your code by using virtual and  heap allocation 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vs. comm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map and shm* functionality - see CreateFileMapping(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make assumptions about stack growt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aphics Compatibi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3320" y="1460520"/>
            <a:ext cx="76770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functionality in general a superset of X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libnt.zip available on CompuServe and Internet - provides Xlib functionality on top of GD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GL - third parti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st way to develop GUI applications with some of great tools from Blue Sky, Protoview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rting Tradeoffs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33640" y="1486080"/>
            <a:ext cx="687708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for programmer vs. utility  for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and complexity of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scellaneous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ming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09600" y="203976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formation in registry vs. in separate text files; registry maintaine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ultiple threads - multiprocessing will be ubiquitous and CHEA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0120" indent="-600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help in your application - easy, very good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 -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276200"/>
            <a:ext cx="7162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Windows NT programming tools shipping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tools section in cata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s -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U tools - Congruent, Hamilton, M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Aids - DataFocus, Congruent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gu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00280" y="1733400"/>
            <a:ext cx="7543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, C++ - Watcom, Borland, Zortech, Silicon Valley Software, Microsof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TRAN - Microsoft, Silicon Valley Software, D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- Silicon Valley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E environments, specialty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52600" y="1727280"/>
            <a:ext cx="80391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News, UUCP, mail - help@kew.com, martin@iastate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client built in, SMTP connectivy pieces through 3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rt III - Resour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3640" y="1390680"/>
            <a:ext cx="7418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forum:  MS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newsgroups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.windows.ms.programmer.win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 CompuServe, Internet sit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uu.net, ftp.cica.indiana.edu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hino.microsoft.co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catalog l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181160"/>
            <a:ext cx="685800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s NOT UNIX, but has the all of the characteristics required to support technical workstation and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UNIX-familiar utilities, resources alread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else do you requi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rianmo@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Kind Of UNIX Programs Do You Hav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81240" y="2228760"/>
            <a:ext cx="4781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tential Porting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362320" y="1905120"/>
            <a:ext cx="44197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SIX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80960" y="1809720"/>
            <a:ext cx="6381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interaction with Windows NT advanc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62080" y="1733400"/>
            <a:ext cx="681984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way to move POSIX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s POSIX sourc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tisfies government requirements for delivery platfor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52680" y="228600"/>
            <a:ext cx="6039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OSIX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80960" y="2266920"/>
            <a:ext cx="638172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PS 151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in32 graphical API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dvanced featur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screen control/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X Server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04840" y="1752480"/>
            <a:ext cx="69343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Server available from NCD, DEC, Hummingbird,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erminal on the Windows desk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