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224760" y="57240"/>
            <a:ext cx="29066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 Ramsey93101 Xhibition ‘93 6/93 </a:t>
            </a:r>
            <a:fld id="{D0AA118A-4453-4B5C-ABB3-92EEEDC86D98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38080" y="1219320"/>
            <a:ext cx="74674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DK Development Environment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uce Ramse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Developer Support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33480" y="228600"/>
            <a:ext cx="7277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- March 199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05000" y="1085760"/>
            <a:ext cx="653400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functionality is 99.9%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 SFM  - enters beta s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exist and tes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elease criterion is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elopment team self-hosted since 6/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81200" y="228600"/>
            <a:ext cx="7581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s Prelimin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42840" y="1028880"/>
            <a:ext cx="7257960" cy="55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hings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disk format (unlik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format (poss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convention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abl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format (no m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no longer require reinstalling Windows NT (recommen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K updates will require rebuilding your application (no m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42840" y="228600"/>
            <a:ext cx="7257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-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1200" y="1467000"/>
            <a:ext cx="75819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ersions of Windows 3.x functionality, including Multimedia, OLE, DDEML, TrueTyp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32-bit functionality - threads, GDI enhancements, virtual memory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ding:  Nma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66880" y="1504800"/>
            <a:ext cx="7410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version of Windows 3.1 Nm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twin32.mak include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macros for Win32 compiler, linker, rc swit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es environment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vs.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vs. 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85920" y="228600"/>
            <a:ext cx="65721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Build Proce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16400" y="2048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/C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352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35400" y="401004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vp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63920" y="313380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63920" y="50482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87480" y="5724360"/>
            <a:ext cx="1486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inDeb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83200" y="5743440"/>
            <a:ext cx="129528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t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040" y="269568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16680" y="369576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26040" y="466740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324320" y="122868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6960" y="1762200"/>
            <a:ext cx="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595920" y="3201840"/>
            <a:ext cx="1397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ff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95920" y="506880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/cv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20760" y="2200320"/>
            <a:ext cx="1523880" cy="533520"/>
          </a:xfrm>
          <a:prstGeom prst="rect">
            <a:avLst/>
          </a:prstGeom>
          <a:gradFill rotWithShape="0">
            <a:gsLst>
              <a:gs pos="0">
                <a:srgbClr val="3352b2"/>
              </a:gs>
              <a:gs pos="100000">
                <a:srgbClr val="00279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68560" y="3152880"/>
            <a:ext cx="161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c/cv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78240" y="2714760"/>
            <a:ext cx="28548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54440" y="3591000"/>
            <a:ext cx="28584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47760" y="228600"/>
            <a:ext cx="6648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162080"/>
            <a:ext cx="81342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-based equivalent of Microsoft C 7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and 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nt-end-compatible with C 7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FC/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have differences from x86, that’s been corr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71560" y="228600"/>
            <a:ext cx="5600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source Comp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8240" y="1638360"/>
            <a:ext cx="70675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 syntax is same as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D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es is incorporated at link time, not after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09880" y="228600"/>
            <a:ext cx="1523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38160" y="1714680"/>
            <a:ext cx="546732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when building D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both .lib and .ex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xp must be linked with rest of DLL to create ex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400560" y="228600"/>
            <a:ext cx="2343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52360" y="1657440"/>
            <a:ext cx="68389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32.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as called C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ortable execu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itches/libraries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ces described in release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acros to isolate differences (ntwin32.ma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95400" y="228600"/>
            <a:ext cx="5353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Debug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162080"/>
            <a:ext cx="792468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on same mach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QCWin debu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debugging multiple 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enhancements since July 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nd machine via comm port or named p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-mortem, or attach to runn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-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895400" y="1619280"/>
            <a:ext cx="53532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development environment for 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migration from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419640" y="228600"/>
            <a:ext cx="2305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S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14560" y="1523880"/>
            <a:ext cx="51166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deb-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debugging from second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commended otherwise, and since WinDbg now does that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305080" y="228600"/>
            <a:ext cx="4533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cu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28640" y="1352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- run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7500 pages of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files for all printed documentation - user and devel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48120" y="228600"/>
            <a:ext cx="3048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a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09880" y="1676520"/>
            <a:ext cx="51246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.h includes everything (for example, ddeml.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Windows 3.1 “strict”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29040" y="228600"/>
            <a:ext cx="3086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fi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48040" y="1714680"/>
            <a:ext cx="5048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use of Win32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application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-set tu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67000" y="228600"/>
            <a:ext cx="621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76320" y="1676520"/>
            <a:ext cx="53910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hipped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ful for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/memory utilization, thread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695680" y="228600"/>
            <a:ext cx="3753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000160" y="1314360"/>
            <a:ext cx="5143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, icon, font edi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, qgr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P (edi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is also an MDI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76480" y="22860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ngs To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0640" y="1143000"/>
            <a:ext cx="556272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now in March SD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bg debugging from second 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support on M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to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/debugging 16-bi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etup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905120" y="228600"/>
            <a:ext cx="5334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ird-Party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85920" y="1390680"/>
            <a:ext cx="6572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tool in late 1991 - Slick Editor from Micro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Tools Conference 1/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ty tool vendors showing Win32-based tools at July92 P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ter/Spring 93 Development Tools for Windows NT Catalog - 126 pages of Windows NT and Win32 development 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Is Her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00240" y="1886040"/>
            <a:ext cx="6743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environment is very similar to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stable and pro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809720" y="228600"/>
            <a:ext cx="552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DK Distribu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47880" y="1657440"/>
            <a:ext cx="5448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to any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through Microsoft Developer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227-46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50,000 SDK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371680" y="228600"/>
            <a:ext cx="440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wo Pack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9600" y="1542960"/>
            <a:ext cx="672480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and final SDK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compiler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99: 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69:  no printed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cense Agre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90520" y="1962000"/>
            <a:ext cx="6762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on-disclosure cl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third parties to ship based on early Windows N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38200" y="228600"/>
            <a:ext cx="6267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pported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66880" y="1390680"/>
            <a:ext cx="74106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designed to support broad range of hard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notes contain list of machines, devices known to run Windows NT as of March 19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list will always be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ch 1993 SDK release:  12 MB minimum, 16 MB recomm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9280" y="228600"/>
            <a:ext cx="59054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ing The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295280"/>
            <a:ext cx="6858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on CD-ROM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 Technologies CD-ROM drive discou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CD-ROM dr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, Windows NT-based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network CD-ROM drive, or CD-ROM drive not yet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in-place inst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71520" y="228600"/>
            <a:ext cx="4800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ting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04840" y="1352520"/>
            <a:ext cx="6934320" cy="36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 via Compu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fo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MSWIN32 - programming/developmen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WINNT - user/product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accou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848-8199, operator 2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86080" y="22860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SDK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24200" y="1638360"/>
            <a:ext cx="52959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DK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